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F21-6F70-44C4-B6D7-75B183EE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6198-4C4F-4D9D-919F-108D6A98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3F22-2573-4C98-B360-EB21768B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9F8-3B0F-497F-8948-FD998A9C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F2CF-2B8E-4D5E-80E4-7E7F88E5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BFA8-C8F9-46D6-848E-3FA28B85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D946-5982-472E-8CDF-D2FA7465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D486-5299-4A47-87C9-479C4A28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9CFA-6EE4-402D-B46E-E235E79B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276E-4DE6-44D0-8CE5-86B62B79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013B-318C-4F9B-BF8E-C8549E5C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FC3-DFA7-4028-8F11-BFE52FB0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7B21-E9D2-49E6-8FF1-60BA917B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C5FA-7C45-46DD-BEC3-1E1A9000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DD0D-683A-4DFF-BAF9-7CAE1F4D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B077-6E6B-4B6F-9B79-2C934674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4D32-0AC3-47E1-B375-02675CAE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F704-66E5-4349-B8BF-C138A671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A915-3184-445F-8B25-E6ECDF30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0DFA-9107-40D6-B90E-E8CF43E8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CE9-704C-4C84-B490-CEA6125F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C42-ED46-4C4C-9065-040C3546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E255-6D3F-4A48-BFF6-55C61DA6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363-EC6F-41FC-8531-A69852FA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214B-414A-4C7B-89D6-58E5A4669F71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B1D4-30F5-4567-9B20-BB0CBCAC489B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MS Access RDB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 Narrow"/>
              </a:rPr>
              <a:t>Database Management System (DBMS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A set of programs that permits an organisation t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centralise dat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create database fil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manage them efficientl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access the data when require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Using a DBMS, users c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create new database fil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add, delete, alter, and sort dat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make enquiries and print report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The DBMS wi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allow many users to simultaneously access the central databa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restrict access for each user to those parts of the database that they are entitled to view or chang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MS Access has many of the features of a DBM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 Narrow"/>
              </a:rPr>
              <a:t>Basic Compon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 Narrow"/>
              </a:rPr>
              <a:t>Tab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 Narrow"/>
              </a:rPr>
              <a:t>For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 Narrow"/>
              </a:rPr>
              <a:t>Quer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 Narrow"/>
              </a:rPr>
              <a:t>Repor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 Narrow"/>
              </a:rPr>
              <a:t>Tab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 Narrow"/>
              </a:rPr>
              <a:t>A table for each separate ent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eaeaea"/>
                </a:solidFill>
                <a:latin typeface="Arial Narrow"/>
              </a:rPr>
              <a:t>Design </a:t>
            </a:r>
            <a:r>
              <a:rPr b="1" lang="en-GB" sz="3200" spc="-1" strike="noStrike">
                <a:solidFill>
                  <a:srgbClr val="eaeaea"/>
                </a:solidFill>
                <a:latin typeface="Arial Narrow"/>
              </a:rPr>
              <a:t>mode allows user to define a data structure for the ta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A primary key – which must be a unique identifier for each record - must be defined. (Access does provide an </a:t>
            </a:r>
            <a:r>
              <a:rPr b="1" i="1" lang="en-GB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Autonumber</a:t>
            </a:r>
            <a:r>
              <a:rPr b="1" lang="en-GB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 function is there is no natural unique identifie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Fo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A user-friendly method of entering data for the main user(s) of a datab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Usually has one </a:t>
            </a:r>
            <a:r>
              <a:rPr b="1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data source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, which may be a table or a qu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The objects that allow fields to displayed and/or modified are known as </a:t>
            </a:r>
            <a:r>
              <a:rPr b="1" i="1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contro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Design is very importa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Order of contr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Layout of contr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Que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Used to create subsets of data held in tab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Used to combine the contents of more than one t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This is achieved via the relational links that are created between tab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The are several types of que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Simple select que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Update que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Append que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Delete que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Crosstab que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Repo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Reports are usually used in conjunction with queries to produce sorted output satisfying particular criter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MS Access provides powerful </a:t>
            </a:r>
            <a:r>
              <a:rPr b="1" i="1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wizards</a:t>
            </a:r>
            <a:r>
              <a:rPr b="1" lang="en-US" sz="32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 to produce reports with various sort, grouping and style optio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Relationshi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The </a:t>
            </a:r>
            <a:r>
              <a:rPr b="1" i="1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relational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 database model depends upon the creation of relational links between separate entities (tabl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One-to-Many relationshi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For example in a surgery database, a doctor would have many patie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438280" y="3886200"/>
            <a:ext cx="4467240" cy="623880"/>
            <a:chOff x="2438280" y="3886200"/>
            <a:chExt cx="4467240" cy="623880"/>
          </a:xfrm>
        </p:grpSpPr>
        <p:sp>
          <p:nvSpPr>
            <p:cNvPr id="106" name=""/>
            <p:cNvSpPr/>
            <p:nvPr/>
          </p:nvSpPr>
          <p:spPr>
            <a:xfrm>
              <a:off x="2438280" y="3906720"/>
              <a:ext cx="1327320" cy="5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tor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29080" y="3886200"/>
              <a:ext cx="157644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tient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762360" y="3928680"/>
              <a:ext cx="1590480" cy="506520"/>
              <a:chOff x="3762360" y="3928680"/>
              <a:chExt cx="1590480" cy="506520"/>
            </a:xfrm>
          </p:grpSpPr>
          <p:sp>
            <p:nvSpPr>
              <p:cNvPr id="109" name=""/>
              <p:cNvSpPr/>
              <p:nvPr/>
            </p:nvSpPr>
            <p:spPr>
              <a:xfrm>
                <a:off x="3762360" y="4172040"/>
                <a:ext cx="1577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5102640" y="3928680"/>
                <a:ext cx="236520" cy="24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116680" y="4192200"/>
                <a:ext cx="236160" cy="24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121932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One-to-one relationshi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a doctor would have one expense accou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514600" y="5943600"/>
            <a:ext cx="4481640" cy="623880"/>
            <a:chOff x="2514600" y="5943600"/>
            <a:chExt cx="4481640" cy="623880"/>
          </a:xfrm>
        </p:grpSpPr>
        <p:sp>
          <p:nvSpPr>
            <p:cNvPr id="114" name=""/>
            <p:cNvSpPr/>
            <p:nvPr/>
          </p:nvSpPr>
          <p:spPr>
            <a:xfrm>
              <a:off x="2514600" y="5964120"/>
              <a:ext cx="1327320" cy="5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tor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19800" y="5943600"/>
              <a:ext cx="157644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pense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38680" y="6229440"/>
              <a:ext cx="157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19:00:03Z</dcterms:created>
  <dc:creator>Graham R Pugh</dc:creator>
  <dc:description/>
  <dc:language>en-US</dc:language>
  <cp:lastModifiedBy>Graham R Pugh</cp:lastModifiedBy>
  <dcterms:modified xsi:type="dcterms:W3CDTF">2001-06-02T20:35:20Z</dcterms:modified>
  <cp:revision>41</cp:revision>
  <dc:subject/>
  <dc:title>Relational Databases</dc:title>
</cp:coreProperties>
</file>